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09BE5-68DC-4028-9887-8728F0CDB6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137120"/>
            <a:ext cx="7848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70CB2-9593-4416-8A87-8683F631B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38300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79120" y="1828440"/>
            <a:ext cx="38300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137120"/>
            <a:ext cx="38300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79120" y="4137120"/>
            <a:ext cx="38300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D1832-17A7-40C0-B548-02F05919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5272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11120" y="1828440"/>
            <a:ext cx="25272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765040" y="1828440"/>
            <a:ext cx="25272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137120"/>
            <a:ext cx="25272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11120" y="4137120"/>
            <a:ext cx="25272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765040" y="4137120"/>
            <a:ext cx="25272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7BDB9-9C82-4798-9CD5-DD9D915F7E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C3535-ADB7-4425-9CC3-8AEC1973C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4A3EF-14B5-48AC-8988-B058F372C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3830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79120" y="1828440"/>
            <a:ext cx="3830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95040-CB4B-4947-94B7-48F86798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D8B46-EA51-46A1-ABDB-7106D39C3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33520" y="533520"/>
            <a:ext cx="769608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6711C-54BD-4021-9870-C31EC6CFB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38300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79120" y="1828440"/>
            <a:ext cx="3830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37120"/>
            <a:ext cx="38300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483DC-4F5B-49C7-845C-379C59A40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3830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79120" y="1828440"/>
            <a:ext cx="38300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479120" y="4137120"/>
            <a:ext cx="38300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C3EBF-D64B-4F96-B5C3-1D3D4583F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38300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79120" y="1828440"/>
            <a:ext cx="38300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137120"/>
            <a:ext cx="7848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09BD6-7B07-4F06-AA6E-EC54847C9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micklei@philemonwork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2743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D5DC7-81D6-460A-8DE7-EBBA9AEEE6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823160" y="5665680"/>
            <a:ext cx="1098720" cy="9748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839000" y="5681520"/>
            <a:ext cx="1071720" cy="32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819920" y="6657480"/>
            <a:ext cx="1123920" cy="32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943840" y="5667480"/>
            <a:ext cx="0" cy="9936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839000" y="5681520"/>
            <a:ext cx="0" cy="9464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848720" y="5694480"/>
            <a:ext cx="1066680" cy="93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Terminal Widgets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rnest Micklei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Tahoma"/>
              </a:rPr>
              <a:t>emicklei@philemonworks.com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mersfoort, The Netherland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ahoma"/>
              </a:rPr>
              <a:t>ESUG 10t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Tahoma"/>
              </a:rPr>
              <a:t>Douai, August 29 200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Tahoma"/>
              </a:rPr>
              <a:t>List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1275120" y="2378160"/>
            <a:ext cx="6372720" cy="3014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| window list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"window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indow := TerminalWidget windowClass in: (1@1 corner: 24@80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"build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st := TerminalWidget listClass in: (1@1 corner: 8@20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st items: #('ESUG' '10th' 'Douai' 'France' 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window add: li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"open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Terminal show: wind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Image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1275120" y="2378160"/>
            <a:ext cx="6372720" cy="3014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| window list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"window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indow := TerminalWidget windowClass in: (1@1 corner: 24@80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"build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mage := TerminalWidget imageClass in: (1@1 corner: 8@20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mage bitmap: (Bitmap fromFile: 'splash.bmp'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window add: im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"open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Terminal show: wind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Menu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343520" y="1752480"/>
            <a:ext cx="6372720" cy="3744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| window list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"window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indow := TerminalWidget windowClass in: (1@1 corner: 24@80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"build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nu := TerminalWidget menuClass in: (1@1 corner: 4@20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nu add: '1. Stockrates' key: $1 do: [self startStockrateView]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nu add: '2. Accounts' key: $2 do: [self startAccountView]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nu addLi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nu add: '3. Invoices' key: $3 do: [self startInvoicesView]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window add: men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"open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Terminal show: wind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MenuBar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1253880" y="1905120"/>
            <a:ext cx="6534360" cy="3501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| window list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"window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indow := TerminalWidget windowClass in: (1@1 corner: 24@80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"build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nuBar := TerminalWidget menuBarClass in: (1@1 corner: 1@80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nuBar add: 'File' key: $f menu: self fileMen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nuBar add: 'Edit' key: $o menu: self editMen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nuBar add: 'Help' key: $h menu: self helpMen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window add: menuBa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"open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Terminal show: wind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Terminal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s top container for terminal window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n show, hide and (will in future) stack window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mplementation is dialect specif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ut requires minimal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Widget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idgets claim a region of the scre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as a controller to handle keyboard ev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as a model for storing its domain valu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as an appeara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s the "V" in MV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when:send:to:, broadcast: (AO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Character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splays a single character in some (fixed) fon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n display decoration (border line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as an appeara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Implementation challenges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haracter (re)displa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putControll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ppeara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Character (re)display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bservation: painting complete screen is too expensiv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amage rectangles intersection is too expensiv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idget knows which characters to updat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ut, does not help with overlapping OS-windows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eed double buff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InputController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ike the VW ParagraphEditor, but..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break text into lines, localizing updat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eplace CRLF with C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very character takes up one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ursor can be beyond tex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ursor can be on CR posi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dopt color emphasi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crolling (vertically onl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no TAB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Motivation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SI (Repetitive Strain Injui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ast access to simple programs (=object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Explore mixed interfaces (pixels-ASCII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implest UI possib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lient-serv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module for SmallScrip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Appearance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indow appeara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idget appeara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racter appeara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erties "inherited" by composition hierarch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difiable at each "level"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Appearance hierarchy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2640" y="2057400"/>
            <a:ext cx="6553080" cy="3581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rminalObjectAppearance  (abstract superclass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oreground background selectionForeground selectionBackgroun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rminalWindowAppearanc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ont fontName characterWidth characterHeight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rminalWidgetAppearanc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indowAppearance borderColor showBorderOnFocus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rminalCharacterAppearanc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idgetAppearanc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WidgetApperance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nds colors from parent appeara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WindowAppea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ut can override values by replacing nil-valu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erminalObjetAppearance&gt;&gt;backgroun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^background isNi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fTrue:[self hasParent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fTrue:[nil]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fFalse:[self parentAppearance background]]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fFalse:[background]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CharacterAppearance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itially meant for per-character coloring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came obsolete when introducing EmphasizedText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 rewrite of VW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'ESUG' asEmphasizedText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rom: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o: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etForeground: Color yel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(dos) TextEditor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m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38280" y="2590920"/>
            <a:ext cx="391500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(yet another) Class Browser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m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600200" y="2549520"/>
            <a:ext cx="6019920" cy="34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Tahoma"/>
              </a:rPr>
              <a:t>Smalltalk Objects Shell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hell interface to an almost empty object space (image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m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514600" y="2514600"/>
            <a:ext cx="504828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What's next to do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mplementation issu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 issu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t of purpose issu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loring the "Smalltalk Objects Shell"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What's next to implement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write InputControll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t tips from Samuel Shu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nish port from VAST to SmallScrip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t it on the we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xt selection for InputControll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,copy,pas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andle OS-pai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uild from Pollock XML?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How to port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splay method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raw a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raw a String charac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et col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dispatch keyboard ev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handle focus ev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have a window to paint 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(almost) done for SmallScrip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Design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widget displays an aspect of an object in a defined region of a window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region is defined by a rectangular area of characters organized in rows and column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yboard events are handled by the controller of the widget (MVC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Design issues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ow to design characterbased application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still be object-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at do I need for client-server architect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be TELNET is fine, why b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issing widgets? buttons,dropdown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o I really want to mimic Wind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Shell for Objects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84872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tivation for porting to "imageless" SmallScrip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e objects in stead of just (fat)executab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nk about what objects are really powerful but do not need a UI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al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D language genera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Useful?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-inventing wheels? (curse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s mixing character-based and full graphics only just "yes we can do-it" ?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ill performance be acceptable ?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About the results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Can be done (what else would you expec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Might be usefu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Mixing with other widgets not explore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Highly portable (to other dialect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Mouseless app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Example SmallScript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254952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ference module: PhilemonTerminalView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| window | := Terminal windowClass in:(1@1 corner: 20@40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| text | := Terminal textClass in:(2@2 corner: 19@39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ndow add: tex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rminal show: wind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55627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".dll = 56kB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Thanks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wnload @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ttp://www.philemonworks.com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Design (II)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Tahoma"/>
              </a:rPr>
              <a:t>Termina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rm is a UI component that displays a grid of ASCII character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r displaying, widgets map their contents to characters of that gr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Design (III)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e classes are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Tahoma"/>
              </a:rPr>
              <a:t>Terminal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harac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Tahoma"/>
              </a:rPr>
              <a:t>Terminal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Tahoma"/>
              </a:rPr>
              <a:t>Terminal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dg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Tahoma"/>
              </a:rPr>
              <a:t>Terminal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Other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ositeWidget, Appearance,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Coordinate system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514600" y="2743200"/>
          <a:ext cx="4267080" cy="2666880"/>
        </p:xfrm>
        <a:graphic>
          <a:graphicData uri="http://schemas.openxmlformats.org/drawingml/2006/table">
            <a:tbl>
              <a:tblPr/>
              <a:tblGrid>
                <a:gridCol w="473760"/>
                <a:gridCol w="474120"/>
                <a:gridCol w="474480"/>
                <a:gridCol w="473760"/>
                <a:gridCol w="474480"/>
                <a:gridCol w="474120"/>
                <a:gridCol w="473760"/>
                <a:gridCol w="474480"/>
                <a:gridCol w="474120"/>
              </a:tblGrid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2566440" y="5638680"/>
            <a:ext cx="305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grid at: (1@2)) = $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01920" y="1981080"/>
            <a:ext cx="45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by Points: row@colu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Grid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rminal screen is showing a matrix of graphical characters organized in rows and columns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Tahoma"/>
              </a:rPr>
              <a:t>Termina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ract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Tahoma"/>
              </a:rPr>
              <a:t>Termina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r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4481640" y="3800520"/>
            <a:ext cx="1823400" cy="2069280"/>
            <a:chOff x="4481640" y="3800520"/>
            <a:chExt cx="1823400" cy="2069280"/>
          </a:xfrm>
        </p:grpSpPr>
        <p:sp>
          <p:nvSpPr>
            <p:cNvPr id="63" name=""/>
            <p:cNvSpPr/>
            <p:nvPr/>
          </p:nvSpPr>
          <p:spPr>
            <a:xfrm>
              <a:off x="4481640" y="4876920"/>
              <a:ext cx="3758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481640" y="5400720"/>
              <a:ext cx="3758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971960" y="4876920"/>
              <a:ext cx="3758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971960" y="5410080"/>
              <a:ext cx="3758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438880" y="4876920"/>
              <a:ext cx="3758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438880" y="5400720"/>
              <a:ext cx="3758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29200" y="4876920"/>
              <a:ext cx="3758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29200" y="5410080"/>
              <a:ext cx="3758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481640" y="3800520"/>
              <a:ext cx="3758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81640" y="4324320"/>
              <a:ext cx="3758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71960" y="3800520"/>
              <a:ext cx="3758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971960" y="4334040"/>
              <a:ext cx="3758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438880" y="3800520"/>
              <a:ext cx="3758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438880" y="4324320"/>
              <a:ext cx="3758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29200" y="3800520"/>
              <a:ext cx="3758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929200" y="4334040"/>
              <a:ext cx="3758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Grid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holds collection of TerminalCharact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ad/write strings to grid (matrix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for display onl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erminal OS-window holds gr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Text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1279440" y="2378160"/>
            <a:ext cx="5996160" cy="3014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| window txt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"window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indow := TerminalWidget textClass in: (1@1 corner: 24@80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"build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xt := TerminalWidget textClass in: (1@1 corner: 8@20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xt string: 'This is a Smalltalk terminal application'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window add: tx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"open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Terminal show: wind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3T08:49:26Z</dcterms:created>
  <dc:creator>Philemon</dc:creator>
  <dc:description/>
  <dc:language>en-US</dc:language>
  <cp:lastModifiedBy>emicklei</cp:lastModifiedBy>
  <dcterms:modified xsi:type="dcterms:W3CDTF">2002-08-29T14:35:32Z</dcterms:modified>
  <cp:revision>88</cp:revision>
  <dc:subject/>
  <dc:title>No Slide Title</dc:title>
</cp:coreProperties>
</file>