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262-A59F-44BE-9ECE-78975336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1D4-6CA4-41F2-98E4-F6ECFBFB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353-C592-4822-AC0F-02B5FEE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CBC-AE9D-497E-8B4D-0223D6D3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D01-12D2-4DD1-AFEA-3CFF8392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075-A3B7-4474-9DA7-922F2848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52E-3A66-4093-BF14-027657F3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477-399C-40BF-9A17-985158E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BCF-16C7-4E92-A209-7D636146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A1C-D8E8-4D53-8C13-53075D56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1B3-0990-4DBA-BDBD-4D4F283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22A-16C0-4321-AE3E-38EAF08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62FB-8C50-4A9F-9647-D9EE7FB8CDFD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2849-07EA-42AD-98AB-653A3826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J. Be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Computer History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69B-9623-48F1-B9A8-DBACED5230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5ACFD-5530-40D6-B7C2-40777E5BC9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exam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 195.8.72.23/numbers.h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per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numexam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E64-8393-45DF-BD7D-5316DD6DFF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E9766-1879-4926-A278-B1FD81D0890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,425 Bir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 195.8.72.23/numbers.h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per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12425%20Birds%20Mark%20Millmore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4008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584-EAD6-4957-97B7-2C6DFB1B2F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41550-2D6A-4D7D-8A66-1E20FCF417C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ptia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eroglyphic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pictographic symb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= Stick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= Arch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= Coiled Rope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= Lotus Flower   </a:t>
            </a: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000 = Finger (pointing to sky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,000 = Tadpole (from the N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000,000 = Man (arms reaching to heav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713-D000-4ECA-A477-9EBA7B5E66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643B4-CB65-439B-B33F-712E969E49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oglyphic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ddi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/ / / 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П 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/ / / / / / 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19920" y="12949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16A-505D-4073-A8EF-D36C3BB1A5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AF22B-BDBA-42DF-8B64-89F0160A66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oglyphic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ddi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/ / /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П П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/ / / / / /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ahoma"/>
              </a:rPr>
              <a:t>П П П П П П П П П 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/ / / / / / / / / 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/ / /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ahoma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П П П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/ /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19920" y="152388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CAE-51BA-4A16-AEEA-410DDD1B34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8817A-A905-4289-B2B8-F2C631C24AC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on by Doubling (23 X 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/ 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/ / / 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П П 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П П 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/ / / 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3760" y="12949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1D1-6606-4CB2-8AD4-21A77D8ED2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124FF-CECB-4D4E-BF41-5F62390759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on by Doubling (23 X 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П П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/ /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П П П 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/ / / 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П П П П П П П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П П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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П П П П П П П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8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ahoma"/>
              </a:rPr>
              <a:t>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/ / / 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3760" y="12949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23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92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184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8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================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299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BE6-846F-4598-8A80-922C7A3F93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FF54D-B080-4089-98F0-B6FC67128B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and verify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mes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2 3_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9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83B-138D-43C0-A1DC-83E484FCF5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FE80B-5547-40B1-8BB9-859D0BDF88E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eks and Rom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ks adapted their alphabet for numerals; others followed their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numerals are also alphabetical, but they did not originate as such.  Early artifacts show that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iginated from the way in which scribes drew a slanted line through the number for fou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/////  +  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ecam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one half of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habit of putting a circle around the tenth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ndicate one hundred becam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0E9-6D05-4765-A012-9A7B4653D2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0DA8A-8DBC-4B02-9DE4-8BA3913641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XX     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BE9-7AA2-4162-89D8-8C9B69BCD4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5D8DE-F9FE-4AC6-910B-6E5F5CCA5FF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 means of communicating facts and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hre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ws 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h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ill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e you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y tablets in Sumer were used fo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tographic 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@ 3300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ptians us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ieroglyphic sig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papyr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206-44C1-4891-810C-12543D3588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D3B95-64AD-46C5-A9AF-E493D3679A0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an Num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655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 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=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 (bar)= 5000       “vee ba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V (bar) = 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(bar) = 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(bar) = 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 (bar)= 1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EB0-BCC7-421D-AF14-1DE627F460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35BA9-AC93-4FDC-9419-D777BE6E24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Roman Num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1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M   CCC   X    V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+82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DCCC  XX     I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13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M D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C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XX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 I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llect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  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rm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C   XXX  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D16-A899-4462-B7FE-FA685B29B6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8FECE-DF34-484C-8706-EE0BC3921B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traction using Roma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8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M CCCC L XXX V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134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     CCC       XXXX  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43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pand: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M CCCCXXXXX III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 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     CCC     XXXX   II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-------------------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    C         XXXX  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AD2-477D-4BF4-80A3-09BFF43317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08D9C-6BBC-4F5B-904E-0AE2D41E69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ication using Roman Num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____V___  _X___L____ C____D___  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XV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CL   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MD   V-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-bar   VV-b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8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X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mes 1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XVIII times 1  =    XX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8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XVIII times 1  =   XX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3 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XVIII times 10 =  CCL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CC L XXXXXXX VV III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Collect terms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CC XXX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076-EAF4-497C-BD13-705FB06BE69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23265-DCCE-4A89-9C48-7232420F46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du-Arabic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ians used horizontal tallies (/) for one, two and three, and special symbols for four through n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600 CE, the Indians started using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ace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, instead of writing the equivalent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00 + 80 +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y wrot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8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nine digits were used along with a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ymbol for ze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bably derived from astronomer’s marking empty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amous inscription dated 870 CE contains th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ro that has surv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878-8D62-417D-A180-8CC1D33FFE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94BA5-BD7B-458F-8649-397F4891017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du-Arabic num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ncient Hind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ce values and decimal system (base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sitional Not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, 4 2 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ab traders brought the system to Europe where it became known as “Arabic numera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: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      100000  10000  1000   100   10    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2        32          16        8        4        2     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3A0-FF9D-4DE9-A24F-2A508D4C61E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57F72-6A53-410E-AE2F-DDAD697E42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 of Wisd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iph Al-Mam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0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gh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het Mohammed: “Seek Learning Though It Be In Chin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omical tables - Feast of Rama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ca (geography and ge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DFF-9DCF-4214-8545-9203389DB81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A24DC-3EA5-408A-BE85-CE14C13677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1720"/>
            <a:ext cx="769608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-Khowarizm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u Jafar Mohammed Ibn Musa Al-Khowariz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rn 780 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va, US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isab Al Jabr Wal-Mugabala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The Compendious Book on Calculations by Completion And Balanc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Hindu numerals and decim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read throughou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” problems: inheritance of e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rn words: algorithm from  “Al-Khowarizm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algebra from  “Al Jab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additional books on the Astrol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493-A3CF-4079-B3D7-48031D7913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115EC-630F-4F22-B353-93B049C37C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opotam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ystem based on sixty: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the ages this system has been used by astronom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60 seconds in a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60 minutes in an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360 degrees in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longitude and la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03A-1050-4F58-B01F-D11F1DE35C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8FD72-72C3-473B-806C-0EC1395F8E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European Text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ero of Alexandria: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ultiplication by fac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 times 8 = (10 + 3) times (10 + 8)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+ 80 + 30 + 24 =  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tolemy 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Almag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Babylonian numb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60, our source of  60 minutes, 60 seconds, and 360º angular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thematical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upl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doubling), an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d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halv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C3B-9266-4E0D-BAC7-7AEF2B0EE3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34ECB-0FCC-4461-AD50-DF136AD72F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y Tab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141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C11-6739-4B0D-84FB-98383AB8FB1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87E1E-5E57-412F-B4DA-961AE15A25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ation by doub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mes 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9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 9 4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5 3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7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75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6 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53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4BD-72D2-4BDE-BA73-498FF1A81F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333B9-ECE6-4850-A9C9-36042A9005D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9677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nstruction of Ptahotep: 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limit may be set to art, neither is there any craftsman that is fully master of his craft.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 195.8.72.23/numbers.h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per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Mark%20Hieroglyph%20range%20from%20web%20site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E87-1821-487F-A476-1DBBEEC072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4E771-6E59-451C-9487-5F503ECD791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phabetic symb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 195.8.72.23/numbers.h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per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ieroglyphic%20alphabet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5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5B9-4FE3-4BA8-9862-A0B5F9007E6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11019-6CF1-477A-8889-DFADED8274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 195.8.72.23/numbers.h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per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yllabic%20signs" descr=""/>
          <p:cNvPicPr/>
          <p:nvPr/>
        </p:nvPicPr>
        <p:blipFill>
          <a:blip r:embed="rId1"/>
          <a:stretch/>
        </p:blipFill>
        <p:spPr>
          <a:xfrm>
            <a:off x="2532240" y="990720"/>
            <a:ext cx="4159080" cy="55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03A-2EF0-4064-A542-D1A3061377D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6D748-244F-419E-8C4E-AEB9B4E8D8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phab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00 BC one of the first alphabets is developed in Ugarit (Syria) by stripping down Mesopotamian cuneiform characters to only 30 signs; elsewhere in the middle east, scribes developed symbol sets that were easier to write than the wedge-shaped letters of cunei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BC Phoenicians develop an alphabet of 22 signs for consonants; although not the first alphabet, it is adapted by both Greeks and Israelites to their own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317-8847-4545-969D-AA502879D59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F9AD7-F788-44A7-BCB1-B91EAD2A4D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of Alphab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Phoenicians were great traders they spread their version of the alphabet around the Mediterranean: Greeks, Etruscans, and Rom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printing was invented, a form of the Roman alphabet from Italy became the standard printed alphabet. [Johann Gutenberg invented a system for casting type as a flat surface around 1440 C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how the English language, Wind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, and HTML have permeated present societies a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6B6-B493-48B0-A642-76A9994D05D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FC687-E660-40FA-A4D0-DF1A2C56BEE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nch and Hellema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Timetables of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mon &amp; Schuster, 19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jor source of information about hieroglyphics can be found a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95.8.72.23/numbers.ht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60F-2AF3-4BAB-BD03-2E91E95FFCA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C583A-AB9E-4B96-9B91-BF3F6C8961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hieroglyphic tab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yer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rolabe; hour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439-4D75-4CD3-BD44-7F0F8B20BF7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61E03-4B49-4AED-80A4-A5FA4EA751F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  7   A   a   Z  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Ê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  Æ  Ü   ç   ê   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hemat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 -    /    *   ^    ƒ    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charact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  ®   ™   ©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k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F46-5EBE-4DD7-89FD-49AA737594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AB3E1-3227-493E-B703-DFDA8CC09B9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ly all numeration starts 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l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single strokes to represent each additional unit:  / for one, // for tw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of tallies has been foun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e frag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as early as 15,000 B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lly system can exist before a language develop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ords for 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: Bunch and Helleman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Timetables of Technolo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imon &amp; Schuster,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027-9E29-4E8F-A7E5-11F06BF76D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AD0CA-5DD0-40C5-B2E7-DEF9394FFC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y St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305560" cy="21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7C1-272F-4DE7-9FF4-B5D6F7B6F89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C643D-3D07-4799-B7E6-541389E43A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ocieties develope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present qua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4000 BC, tokens existed for “ten sheep” ( say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for “one sheep”(say: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following tokens: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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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Webdings"/>
                <a:ea typeface="Webdings"/>
              </a:rPr>
              <a:t>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any sheep are repres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ere different tokens for different commodit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hree hor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be represented as “</a:t>
            </a:r>
            <a:r>
              <a:rPr b="0" lang="en-US" sz="2400" spc="-1" strike="noStrike">
                <a:solidFill>
                  <a:srgbClr val="00cc99"/>
                </a:solidFill>
                <a:latin typeface="Marlett"/>
                <a:ea typeface="Marlett"/>
              </a:rPr>
              <a:t>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nd not “</a:t>
            </a:r>
            <a:r>
              <a:rPr b="0" lang="en-US" sz="2400" spc="-1" strike="noStrike">
                <a:solidFill>
                  <a:srgbClr val="3333cc"/>
                </a:solidFill>
                <a:latin typeface="Webdings"/>
                <a:ea typeface="Webdings"/>
              </a:rPr>
              <a:t>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which i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ree sh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3B4-C07E-4956-8DE1-98C04585CA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9E33C-158A-485F-99D9-F9358DAED16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of </a:t>
            </a: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4000 BC, traders in Uruk were discovering that the sam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ld be used to mea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eep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gs of grain, 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lents of co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3000 BC, Egyptian tallies show items grouped at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allies were regrouped at 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und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grouped again a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e thous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164-14FA-4C58-8476-E8CE7705C7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7C102-4619-47F5-8D27-3879C0C809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oglyphic numb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:  195.8.72.23/numbers.h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Mark Millmore</a:t>
            </a:r>
            <a:br>
              <a:rPr sz="28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with per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umbers" descr=""/>
          <p:cNvPicPr/>
          <p:nvPr/>
        </p:nvPicPr>
        <p:blipFill>
          <a:blip r:embed="rId1"/>
          <a:stretch/>
        </p:blipFill>
        <p:spPr>
          <a:xfrm>
            <a:off x="533520" y="1806480"/>
            <a:ext cx="8305560" cy="466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031-379A-4184-9EDC-646A6DD0DD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57309-531F-448A-8C5A-050B8B5B152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5:38:28Z</dcterms:created>
  <dc:creator>Tim Bergin</dc:creator>
  <dc:description/>
  <dc:language>en-US</dc:language>
  <cp:lastModifiedBy>Comp. Sci. &amp; Info. Sys.</cp:lastModifiedBy>
  <cp:lastPrinted>2000-01-24T17:58:25Z</cp:lastPrinted>
  <dcterms:modified xsi:type="dcterms:W3CDTF">2001-03-22T18:30:33Z</dcterms:modified>
  <cp:revision>33</cp:revision>
  <dc:subject/>
  <dc:title>Numeration</dc:title>
</cp:coreProperties>
</file>